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796088" cy="10075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796800" cy="10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0"/>
          </p:nvPr>
        </p:nvSpPr>
        <p:spPr>
          <a:xfrm>
            <a:off x="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1"/>
          </p:nvPr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627515A-8DBF-46DB-8735-DFA6F5A76E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A1CE8A2-6358-490A-AF4A-827AA9B3862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E8F63FB-38D6-4FD2-A3FE-A375C65461A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548EA32-752D-40D1-A549-58E190970B8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13DDC6D-DB44-4D42-8A42-8F2632CF1F5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C8586DA-0CDF-4801-A67D-26CCD27E30F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9A21D3F-3915-48A2-B81F-00F7293354C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BDFC94E-5402-400A-8BAE-16C71F2A890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27D7878-8554-41BC-8EA4-0FA963C6AF7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B54204F-6840-4004-B3B4-865E9D4A973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69722F3-F3FF-4A57-B700-9507A9558E7F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3B98D52-9818-4BA7-B774-DC3441A351E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1162A3B-5245-442E-8757-65229A92C93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4D333B7-9C83-4352-8720-ECDD1B19799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E174BF1-8673-4906-A1AE-5A20098CCFC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294E3E1-F2AF-47C2-8D6B-5E136E6B4E20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51C1D67-4438-4BA9-9491-A4C7DA5328D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9BCEB6F-787D-4A5E-9726-D661048B8CE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5D20755-5DEA-4210-B4E2-B04A8F44862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A1C0DDE-1430-4DE4-8E34-99A8D0A9272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1CC7AC8-A953-44AF-B620-BC794431FF5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D1D964A-1CFE-406E-A328-F67C1487F9A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5607217-2E8A-47ED-94B1-BED389BFADC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7E9CC7C-8367-4103-A294-D870A20BE97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AB2E652-0AFE-4EFA-9ECC-15259A7D349F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7035667-F8BF-4E71-879A-88695F95BB8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7EA000A-A2BC-4B7B-A8C8-60566C21FDB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K 6.265 str. 1 d. Jeigu asmuo, kuris nėra darbuotojas, vykdydamas kito asmens, kuris nėra darbdavys, duotą nurodymą, padaro žalos, tai abu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e asmenys atsako solidari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nimas -&gt; CK 6.718 str. 3 d. Paslaugų teikėjas privalo teikti paslaugas pagal sutarties sąlygas ir kliento nurodymus. Jei kliento nurodymai 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tarauja sutarties įstatymams, nusistovėjusioms profesinės veiklos taisyklėms, standartams, profesinės veiklos etikai ar sutarties sąlygoms, paslaugų teikėjas turi teisę atsisakyti vykdyti tokius nurodymus ir sutartį nutrauk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ektroninės komercijos direktyva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nustato atsakomybės i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mtis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mere conduit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tiesiog elgesio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kai paslaugų teikėjas nežino, kokia informacija siunčiama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laikino saugojimo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informacijos saugojimas) atvejais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atveju būtinos sąlygos yra nežinojimas, kad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 informacija ką nors pažeidžia, bei informacijos pa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alinimas nedelsiant gavus tokią informacij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6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7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CB48E0E-690F-4106-8FC3-241E625E1B4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6FAA67C-7BD5-4052-A911-3FE035B5FD9B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BABD24A-ECFA-4730-B218-A5DEE023482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88CD1AD-9BB4-4CD0-B75F-BFA608E7499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AED7EE4-5FF6-4A53-820F-BC20454C80B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ABD208B-E9C3-49E5-B7E7-1A24C204E35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13DDC2B-8FD6-40B3-A23C-DCCEDBFF74E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E2F838A-0D17-44C4-94E2-8B2155AD74A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AD928E1-1BD5-4E14-B457-032C5E6DFF3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41E485B-CC75-43BB-B134-1080A4C5AC4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721519F-5356-4696-BD29-3C487AD3308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151-0D2D-4016-9126-A50055E8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DD5-3DF6-4365-8EA9-FC97B075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B2A-66F5-4159-8608-6363714C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AD4-FA6E-4D5C-858A-FF7EC861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1049-94EC-47F3-8E10-A881C594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22FB-9022-4449-808C-7F769DFC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1EB8-35C2-4060-883D-15E6EB55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2739-F124-4424-A070-CF843C90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9837-5EF4-437B-AD7B-B5B73DA1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62FF-35B1-48E0-AD93-32021F0F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D5B5-C08E-4103-9970-320D996F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CA8-4A91-4535-8F20-9CDF2DB8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2186-28BA-420B-B8E9-E1248D02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DF4A-5BD6-4783-8321-AB7396B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6165-E804-477D-B6BE-AA263715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7D7B-D484-4657-A1AC-10A02985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788F-D626-4E99-8C8D-0B19BFC1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74322-4B92-4478-8005-792F53DDF0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B4E2E6-A405-4BE5-B41C-C9C19A1F85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C47C9-44B4-47C7-AC19-7845273C67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24F67F-A2F6-444B-A614-D29EB07C3E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761B5-1806-467F-8473-6A8F5EA32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5A5-DC95-434D-A6F8-5DAFEF1A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1929F4-8B95-47E3-A7F0-B6B18DD4AF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33A23-CC09-4445-8C82-0C3F20218D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5883D6-DDAE-420B-81C5-4799AB0139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4F69FD-6198-446E-A75F-EADC5A928D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FB520-B75D-4E8A-8495-F820B4FFD9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34117-49B6-425C-A40C-EAE541A51A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658C7E-691E-49B3-822F-6081E048F2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C4332-DE67-477B-AD30-A6A90AC6A7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EC02C-75A1-45EB-BC25-EC8A8FCAD6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BDB09-D81E-4BB2-8623-C573B15F1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B58-0711-4F27-A877-A541BEB2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B0626-2A3F-4ECC-B5A7-9A35D0BFA0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9CF8A-D34C-4207-87C7-C7ACD719EF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CB538-8A51-4427-A57D-75937503AD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0789B-3432-49D0-A409-E9B50447CD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1CBCB-89D5-47DA-BE7C-8377F74B87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A23B0-09FC-4AFF-9B12-12F977EE1F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271F0-BB55-4DB9-A144-118DDE9AFF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0CC9C-1FE0-40ED-AC26-C92393A893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267D6-A39E-4E41-ABAB-FDDA76032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AD7-8B52-4469-9881-ADFDC849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650-A464-477F-8048-FF0F5959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E90-599F-4056-B877-F3C2ACF9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ACB-EA74-462F-AB0C-80C4E7D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970-5AA8-4846-97F8-F76FD1EB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-01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3581280"/>
            <a:ext cx="58752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45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8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ės komercijos teisinio reguliavimo pagrin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Funkcinis ekvivalentišk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alios erdvės institutų perkėlimo į elektroninę erdvę (pritaikymo šiai erdvei užtikrinimas) pagal šių institutų funkcij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dokument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udarymas galimybių, kad būtų įskaitomas; liktų nepakeistas bėgant laikui; galima būtų padaryti dokumento kopiją taip, kad kiekviena iš šalių turėtų tuos pačius duomenis; galima būtų patvirtinti duomenis parašu; pateikti formą, kuri būtų priimtina valstybės institucijoms, įskaitant teism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paraš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uoti asmenį; užtikrinti, kad pasirašymo veiksme asmuo dalyvavo asmeniškai; susieti asmenį su konkrečiu dokumentu (patvirtinimas, kad autorius patvirtino dokumento turinį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utarčių laisv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idžia sutarčių šalims (ypač verslas - verslui komercijoje) laisvai nusistatyti tarpusavio santykių principus ir formas ir įpareigoja valstybę pripažinti tokias sutartis (taip pat ir apsaugant iš jų kylančias tei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o parašo įstatymo 8 str. 3 d.: elektroninis parašas visais atvejais turi šio straipsnio 1 dalyje įtvirtintą teisinę galią (t.y., tokią pat teisinę galią kaip ir parašas rašytiniuose dokumentuose ir yra leistinas kaip įrodinėjimo priemonė teisme), jeigu parašų naudotojai tarpusavyje dėl to susitar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ska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iek tai įmanoma valstybė turi ne pati kištis, o skatinti, kad normas bendru sutarimu kurtų elektroninio verslo dalyviai ir juos atstovaujančios organizacijos (panašu į darbo santykių reguliavimą, kai darbuotojai su darbdaviu pasirašo kolektyvinę sutartį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smens duomenų teisinė apsauga ir vartotoj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pareigoja valstybę ir kitus subjektus saugoti fizinių asmenų privatumą bei užtikrinti sąžiningą elgesį su jais prekybiniuose santykiuose (taip pat ir elektroniniame vers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o principo nuoseklus taikymas ugdo vartotojų pasitikėjimą elektronine komercija ir skatina vartojim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ugumo užtikr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mpa aktualesnis, kai elektroninė komercija atsiveria (naudojama ne uždaroje grupėje) ir naudoja globalius tink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NISA – Europos tinklų ir informacijos apsaugos agentūra (Heraklionas, Kreta, Graikij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is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atitikti tarptautinius teisės aktus, ir užtikrinti, kad teisiniai santykiai, atsiradę pagal vienos valstybės įstatymus, bus lygiaverčiai pripažįstami kitose valstybė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kišimasis (proporcinguma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būti minimalus būtinas pasiekti konkretų tikslą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utorių teisių ir gretutinių teisi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jant informacines technologijas šias teises tampa vis lengviau pažeisti, todėl turi būti skiriamas specialus dėmesys autorių teisėms ir gretutinėms teisė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umas, prognozuojamumas, teisinis tikrumas ir teisėti lūkesčia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statymų leidyba ir teisės aktai turi užtikrinti, kad teisinis reguliavimas būtų aiškus ir nuspėjam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s principas apima ir 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retro non agit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(lot. Įstatymas negalioja atgal) taisykl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ės sutart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uropos Sąjungos, Europos Taryb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valomi viršnacionaliniai teisės ak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Reglamentai, direktyvos, sprendima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statymai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rmiausia – Civilinis kodeks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oįstatyminiai teisės aktai (</a:t>
            </a:r>
            <a:r>
              <a:rPr b="0" lang="lt-LT" sz="1600" spc="-1" strike="noStrike">
                <a:solidFill>
                  <a:srgbClr val="003366"/>
                </a:solidFill>
                <a:latin typeface="Arial"/>
              </a:rPr>
              <a:t>Vyriausybės nutarimai,  ministrų įsakymai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pročiai, doktrina ir tarptautinių organizacijų dokumen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urin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a teisės sistem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eguliavimo dalykas ir meto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ltini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. Beliackas v. UAB “Sabina” (elektroninių įrodymų pripažin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Lietuvos telekomo verslo sprendimai” ir AB “Lietuvos telekomas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D.B.S. Pte. Ltd.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ės organizacij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Bendrija (Europos Sąjung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iršnacionalinis pobūd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konominės plėtros ir bendradarbiavimo organizacija (OEC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o prekybos organizacija (WT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ungtinės tautos – Tarptautinės prekybos teisės komisija (UNCITR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ntelektinės nuosavybės organizacija (WIP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iai prekybos rūmai (IC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uropos Bendrija (Europos Sąjung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9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0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komercijos 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lektin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ės nuosavybė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teisi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ivatinės teisės harmon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konominės plėtros ir bendradarbiavimo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Centrinis tarptautinis išsivysčiusių valstybių forumas, kuriam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pibendrinama įvairių valstybių prakt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eškoma unifikuotų e-komercijos sureguliavimo modeli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BPO rekomenda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eisiškai neprivalo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įtvirtina stiprius valstybių-narių moralinius/politinius įsipareigojimu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ekretoriato atlikta analizė, surinkti duomenys valstybėms-narėms padeda efektyviau atlikti koordinuotą darb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prekybo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saulinės prekybos liberal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TS – bendrasis susitarimas dėl prekybos paslaugom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IPS – susitarimas dėl intelektinės nuosavybės aspektų, susijusių su preky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Jungtinių tautų tarptautinės prekybos teisės komis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ekybos teisės harmonizavimas ir kod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6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ės komercijos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1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ių parašų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intelektinės nuosavybė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ų sutarčių intelektinės nuosavybės srityje rengimas ir administr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utorių teisi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tlikimų ir fonogram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omenų vardų, kaip galimai naujų intelektinės nuosavybės objektų, statuso tyrimai ir susijusių ginčų sprend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olektyvinis reguliavimas, siekiant suderinti bendrus interesus be valstybės pagalb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jusi su elektroninės komercijos reguliavimo evoliucija 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electronic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val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reitas, pigus ir efektyvu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žeidimo pašal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mybė reaguoti į nepriimtiną, nors teisėtą elges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Masinis komercinis paštas iki 2001 01 01 Lietuvoje nebuvo draudžiamas teisės aktais, bet buvo reguliuojamas bendrų savireguliacijos priemoni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trūk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ėra tiesiogiai priverstinai įvykdom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Gali būti taikomos sutartinės sankcij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miamasi savireguliacija kaip paproči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 tapti didesnę įtaką turinčių interneto subjektų (pvz., interneto paslaugų teikėjų) piktnaudžiavi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Visada išlieka valstybės nustatytos taisyklės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konkurencijos teisė, vartotojų apsauga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ieta teisės sistem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ės komercijos teisė – pirmiausia komercinė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endrosios komercinės teisės institutai (šalys, sandor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odifikuoti institutai (elektroninis parašas, elektroninė sutart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ordinatė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ošakis – komercinė; šaka – civilinė; privatinės teisės dal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x mercatoria – viduramžiuose susiformavusi paprotinė komercinė (pirklių)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alogiška elektroninės komercijos teisės pradž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uo pat pradžių buvo nereguliuojamas valstybės, o dauguma elgesio taisyklių susiklostė kaip savireguliacijos sukurti paproči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ėra ribojamas valstybių sienų, todėl sunku taikyti konkrečios valstybės prievartos priem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resursai dažniausiai valdomi privačių subjekt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ai, kaip interneto resursų turėtojai, dažnai atsiduria tarp pažeidėjo ir nukentėjus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ų teisinės atsakomybės už vartotojų skleidžiamą informaciją įtvirtinimas teisės aktu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formalių elgesio taisyklių skatinimas teisės aktai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eisminių ginčų sprendimo būdų skatinimas (pvz., domenų vardų galimo piratavimo (angl. cybersquatting) ginčų sprendimas arbitražo forma ne teis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iquet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FC 1855, RFC 108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mus elementarių pageidautino elgesio internete taisyklių rinki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isyklių 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siųsti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ar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ų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(piktų) žinučių (angl. fl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i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la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vien didžiosiomis raidėmis (TAI LAIKOMA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AUKIM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ternet Corporation of 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gned Names and Numbers (ICAN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kurta 1998 m. perėmė funkcijas iš JA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pelno organizacija, atsakinga už IP adresų ir domenų vardų naudojim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Direktoriai renkami interneto subjektų (5 iš 19 tiesioginiais rinkimais renka interneto vartotoja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990000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28440" y="2361960"/>
            <a:ext cx="7986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iform Domain Name Dispute Resolution Policy (UDR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Sukurtas pagal Pasaulinės intelektinės nuosavybės organizacijos (angl. WIPO) rekomendacij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Įtraukiama į daugelio bendrinių domenų vardų (gTLDs) registravimo sutarti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Ginčus sprendžia nepriklausomų (ICANN paskirtų) organizacijų sudarytos kolegijos (administrative pane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Rezultatas: domeno vardo perdavimas kitam subjektu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Nedraudžiama spręsti ginčo teisme (tai nėra arbitraža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Dauguma ginčų baigiama be nagrinėjimo teism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il Abuse Prevention System (MA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 sąrašą įtraukiami IP adresai, iš kurių masiškai siunčiamas nepageidaujamas komercinis paš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grindiniai Interneto paslaugų teikėjai (pvz., Teleglobe, EUnet International, kt.) blokuoja informaciją, kuri siunčiama iš/į šiuos adres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guliavimo objektas ir meto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Objektas - elektroninė komercija (visuomeniniai santykiai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varbiausia ne santykių objektas (iš esmės tapatus bendrajai komercinei teisei), o vykdymo bū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Metod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yraujantis dispozityvus (ypač B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 komerc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ygios šaly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mperatyvaus metodo elementai (ypač vartotojų apsauga, asmens duomenų apsaug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Administracinis pavaldu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dovaujančios idėjos, esančios reguliavimo pagrin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j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glamentacin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ės aišk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ragų pildy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lizijų šal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formos nediskriminav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nio neutralumo (atvir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nio ekvivalentišk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os skat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teisinės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ugumo užtikr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o pripaž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aus kišimosi (proporcing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utorių teisių ir gretutinių teisi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umo, prognozuojamumo, teisinio tikrumo, teisėtų lūkesči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ės formos nediskrimin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formacijos teisinis efektyvumas, galiojimas ir įgyvendinimas negali būti paneigtas vien tik tuo pagrindu, kad ši informacija yra elektroninis duomenų praneš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NCITRAL Model Law on Electronic Comme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vz., el. parašas negali būti laikomas negaliojančiu dėl to, kad yra elektroninis (Elektroninio parašo įst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tr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nis neutral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ės aktų (ar valstybės politikos) siejimo su konkrečiomis technologijomis veng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ualumo principas - leidžia diferencijuoti skirtingas technologijas pagal jų patikimumą (elektroninis parašas, saugus (angl. advanced) elektroninis parašas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4:08:50Z</dcterms:created>
  <dc:creator>Tomas Lamanauskas</dc:creator>
  <dc:description/>
  <dc:language>en-US</dc:language>
  <cp:lastModifiedBy>Egle</cp:lastModifiedBy>
  <dcterms:modified xsi:type="dcterms:W3CDTF">2008-10-04T08:13:07Z</dcterms:modified>
  <cp:revision>27</cp:revision>
  <dc:subject/>
  <dc:title>PowerPoint Presentation</dc:title>
</cp:coreProperties>
</file>